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55A-74CC-4A30-BA61-EE7BB820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848-9967-4D11-A0C2-678BA8AE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153-0479-4171-AA61-4C7E150A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FFF-8E22-4E47-B4C2-25F93B20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BC3F-4254-4E25-B259-AEB15204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2583-F4FF-4FD3-9DDD-FC99CB79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1C9-29A3-45E1-8D15-6C1BBEF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F10-FFFD-446F-B21F-9CEE9DEC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E9B-D468-43FF-AD9F-B6F8018C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D43-A7A1-4449-AB5E-39743E8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CFA-69C7-4B47-80E2-9EA4D7D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FD4-477A-4F5D-9208-9DEFC19C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20D-6A9A-4710-B891-B316BD1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8692-AB1E-401A-9843-812FFD4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2053-A47F-4FB1-8AA8-BFB1E93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2FC-D276-42E0-A7C9-1C4A2213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F56-9569-47D4-80C7-A84BE0F8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8E3-EA9B-4757-9D7E-4A50A4B4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0DE-739E-4CC7-9F44-F7DC0128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2FB-4430-4F71-8CF2-F7F96FB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36C-34D6-4DF6-BF92-059E450E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2A7-BFE9-4D84-B55B-62F8FDE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515-C818-4447-AFE9-C8B1B9D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C14-7AC4-40D1-AEFD-1345E3E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4797-BEFF-483C-A4D6-61ECD740AC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A685-A877-4171-8581-CF61FCFB88F1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ΡΟΧΩΡΗΜΕΝΕΣ ΜΕΘΟΔΟΙ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XNOOIKONOMIKOY </a:t>
            </a: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ΣΧΕΔΙΑΣΜΟΥ (9</a:t>
            </a:r>
            <a:r>
              <a:rPr b="1" lang="el-GR" sz="4400" spc="-1" strike="noStrike" baseline="30000">
                <a:solidFill>
                  <a:srgbClr val="ffffb7"/>
                </a:solidFill>
                <a:latin typeface="Arial Black"/>
              </a:rPr>
              <a:t>ο</a:t>
            </a: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 ΕΞΑΜΗΝΟ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790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ημειώσεις Εργαστηρίο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THTA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ΕΝΟΤΗΤΕ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εριορισμοί στο πρόβλημα της αριστοποίη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ργασία: Να κατασκευαστούν αλγόριθμοι αριστοποίησης με συγκεκριμένους περιορισμού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ΕΡΙ</a:t>
            </a:r>
            <a:r>
              <a:rPr b="1" lang="el-GR" sz="4400" spc="-1" strike="noStrike">
                <a:solidFill>
                  <a:srgbClr val="ffffb7"/>
                </a:solidFill>
                <a:latin typeface="Arial"/>
              </a:rPr>
              <a:t>ΟΡΙΣΜΟ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πάρχουν δυο ειδών περιορισμοί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εριορισμός της μορφή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(x) = 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εριορισμός της μορφή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(x) &gt; 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ή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(x) &l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ΕΡΙ</a:t>
            </a:r>
            <a:r>
              <a:rPr b="1" lang="el-GR" sz="4400" spc="-1" strike="noStrike">
                <a:solidFill>
                  <a:srgbClr val="ffffb7"/>
                </a:solidFill>
                <a:latin typeface="Arial"/>
              </a:rPr>
              <a:t>ΟΡΙΣΜΟ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 την εύρεση ακρότατου με κάποιον από τους δυο περιορισμούς επιλύουμε τον μετασχηματισμ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x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της συνάρτηση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)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ογα την περίπτωσ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ALTY: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x)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x) = f(x) + r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R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x) &gt;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x) = f(x) – rlog[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ή συνδυασμό τους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(x) = f(x)-rlog[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]+r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ΕΡΙ</a:t>
            </a:r>
            <a:r>
              <a:rPr b="1" lang="el-GR" sz="4400" spc="-1" strike="noStrike">
                <a:solidFill>
                  <a:srgbClr val="ffffb7"/>
                </a:solidFill>
                <a:latin typeface="Arial"/>
              </a:rPr>
              <a:t>ΟΡΙΣΜΟ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σκοπός του μετασχηματισμού αυτού είναι να προσθέσουμε έναν όρο της μορφή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ο οποίος για μεγάλες τιμές το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(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ίναι πραγματικός αριθμό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ημιουργεί απόκλιση της συνάρτησης από το ελάχιστο όταν δεν ικανοποιείται η σχέσ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(x)=0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θώ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επίδραση του όρου αυτού γίνεται αμελητέα, άρα ο περιορισμός γίνεται αποδεκτό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762120" y="12952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2120" y="205740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σκοπός του μετασχηματισμού αυτού είναι να προσθέσουμε έναν όρο της μορφή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rlog[C(x)]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ο οποίος ότα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(x)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όρος αυτός τείνει στο άπειρο (άρα να δημιουργεί ένα τοίχος για να μην προχωρήσει η έρευνα προς αυτή την διεύθυνση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b7"/>
                </a:solidFill>
                <a:latin typeface="Arial Black"/>
              </a:rPr>
              <a:t>ΠΕΡΙ</a:t>
            </a:r>
            <a:r>
              <a:rPr b="1" lang="el-GR" sz="4400" spc="-1" strike="noStrike">
                <a:solidFill>
                  <a:srgbClr val="ffffb7"/>
                </a:solidFill>
                <a:latin typeface="Arial"/>
              </a:rPr>
              <a:t>ΟΡΙΣΜΟ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b7"/>
                </a:solidFill>
                <a:latin typeface="Arial Black"/>
              </a:rPr>
              <a:t>ΠΡΟΒΛΗΜΑ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πρόβλημα τεσ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62120" y="205740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14400" y="2209680"/>
            <a:ext cx="769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υνάρτηση για ελαχιστοποίηση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3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εριορισμοί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x)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gt;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34:34Z</dcterms:created>
  <dc:creator>nmand</dc:creator>
  <dc:description/>
  <dc:language>en-US</dc:language>
  <cp:lastModifiedBy>nmand</cp:lastModifiedBy>
  <dcterms:modified xsi:type="dcterms:W3CDTF">2011-01-12T19:24:12Z</dcterms:modified>
  <cp:revision>45</cp:revision>
  <dc:subject/>
  <dc:title>ΠΡΟΧΩΡΗΜΕΝΕΣ ΜΕΘΟΔΟΙ ΣΧΕΔΙΑΣΜΟΥ ΧΗΜΙΚΩΝ ΒΙΟΜΗΧΑΝΙΩΝ (9ο ΕΞΑΜΗΝΟ)</dc:title>
</cp:coreProperties>
</file>