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356-DB21-4F98-8769-FF149C64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28D8-7A91-4120-9543-C4C2CA0E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5459-EA71-4546-88FD-29F16D2D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728-0FAE-4C68-B872-0D7ABCF0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297A-E3C9-4023-99E5-D00CDD76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874C-C49B-4573-B40E-AC08567A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1112-9853-437B-9D27-44F9498F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CC7F-EC44-483A-91ED-8566617F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04C2-1D48-4EA0-8C3D-3CABCBEC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2909-0521-48E1-9CFE-3A0EA1D6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7540-5CE5-4222-B40B-BDD98721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33A7-CDDE-4093-87CC-F14B7DAF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F5FD-F7A2-4557-BD1E-CEDFFB79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5F64-8088-4A57-B8FF-ACEA62A7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CEFF-4EAB-4A1D-81E5-CAAB6D11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6006-646B-4042-B870-416FCF2C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3BB5-C41A-482F-8750-DB407D22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A399-54CF-4D89-BA97-15E27B1B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E55-DE36-4BBF-9058-719A1D85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28E-F1E0-4B12-B4A1-93D0BE62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451-4352-4FD1-83A7-DBAD097B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332-5614-4319-BA22-02CB802C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98C0-8AD0-4F33-96BC-F3C85E1D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B3E-C63A-4592-B894-148D253E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CA8C-9764-42C2-9198-092832CD965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11EA-9728-4FDA-8101-F2A4E3B77774}" type="slidenum"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b7"/>
                </a:solidFill>
                <a:latin typeface="Arial Black"/>
              </a:rPr>
              <a:t>ΠΡΟΧΩΡΗΜΕΝΕΣ ΜΕΘΟΔΟΙ ΤΕΧΝΟΟΙΚΟΝΟΜΙΚΟΥ ΣΧΕΔΙΑΣΜΟΥ (9</a:t>
            </a:r>
            <a:r>
              <a:rPr b="1" lang="el-GR" sz="4400" spc="-1" strike="noStrike" baseline="30000">
                <a:solidFill>
                  <a:srgbClr val="ffffb7"/>
                </a:solidFill>
                <a:latin typeface="Arial Black"/>
              </a:rPr>
              <a:t>ο</a:t>
            </a:r>
            <a:r>
              <a:rPr b="1" lang="el-GR" sz="4400" spc="-1" strike="noStrike">
                <a:solidFill>
                  <a:srgbClr val="ffffb7"/>
                </a:solidFill>
                <a:latin typeface="Arial Black"/>
              </a:rPr>
              <a:t> ΕΞΑΜΗΝΟ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57909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Σημειώσεις Εργαστηρίο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OTHTA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b7"/>
                </a:solidFill>
                <a:latin typeface="Arial Black"/>
              </a:rPr>
              <a:t>ΜΑΚΡΟΕΝΤΟΛΕ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ροκαταρκτικά για τη χρήση μακροεντολώ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76212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ως ξεκινάω να γράψω μια νέα ρουτίνα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νοίγω το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BA E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πό το περιβάλλον το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BA Editor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πιλέγ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/ Module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l-GR" sz="2200" spc="-1" strike="noStrike">
                <a:solidFill>
                  <a:srgbClr val="ffffb7"/>
                </a:solidFill>
                <a:latin typeface="Arial"/>
              </a:rPr>
              <a:t>συνεχίζεται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3276720" cy="25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b7"/>
                </a:solidFill>
                <a:latin typeface="Arial Black"/>
              </a:rPr>
              <a:t>ΜΑΚΡΟΕΝΤΟΛΕ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ροκαταρκτικά για τη χρήση μακροεντολώ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76212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αι στη συνέχεια δίνω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   όνομα στο νέ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e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(π.χ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Modu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αι για να ξεκινήσω ορίζ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μια ρουτίνα με τη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πισήμανση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blic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για να μπορώ να την τρέχω από τ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Στο παράδειγμά μα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ublic Sub Main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Worksheets(1).Cells(1, 1).Value = "Hello World!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3514680" cy="22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b7"/>
                </a:solidFill>
                <a:latin typeface="Arial Black"/>
              </a:rPr>
              <a:t>ΜΑΚΡΟΕΝΤΟΛΕ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ροκαταρκτικά για τη χρήση μακροεντολώ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6212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Τώρα αν προσθέσω κάποι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σε κάποι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heet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του φύλλο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που έχουμε ανοίξει θα μπορώ να δω την ρουτίνα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Main”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σαν Μακροεντολή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3352680" cy="2325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4572000" y="3946680"/>
            <a:ext cx="342900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b7"/>
                </a:solidFill>
                <a:latin typeface="Arial Black"/>
              </a:rPr>
              <a:t>ΜΑΚΡΟΕΝΤΟΛΕ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ροκαταρκτικά για τη χρήση μακροεντολώ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76212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ως προσθέτω ένα νέ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πιλέγω τ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ls/customize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                    για να επιλέξω τ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πιλέγω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toolbox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αι             επιλέγω τ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 button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                  και το σέρνω                                           στην μπάρα                                   εργαλείω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6629400" y="1828800"/>
            <a:ext cx="2028960" cy="2952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3809880" y="4495680"/>
            <a:ext cx="2686320" cy="22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b7"/>
                </a:solidFill>
                <a:latin typeface="Arial Black"/>
              </a:rPr>
              <a:t>ΜΑΚΡΟΕΝΤΟΛΕ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ροκαταρκτικά για τη χρήση μακροεντολώ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533520" y="2057400"/>
            <a:ext cx="7924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Τέλος σχεδιάζω τ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ton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στο φύλλο το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αι επιλέγω τη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μακροεντολή μ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το όνομα τη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ρουτίνα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Main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ου είχαμε δώσε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την ιδιότητα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στο παράδειγμά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μα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537228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b7"/>
                </a:solidFill>
                <a:latin typeface="Arial Black"/>
              </a:rPr>
              <a:t>ΜΑΚΡΟΕΝΤΟΛΕ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7720" y="1904760"/>
            <a:ext cx="8007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πικοινωνία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BA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μ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 Sheet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για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 – output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δεδομένων γίνεται μεσω των κελιών ενό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 Shee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Για να αναφερθούμε (ανάγνωση ή εγγραφή δεδομένων σε αυτό) πρέπει αρχικά να διαβάσουμε τ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heet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αι στη συνέχεια να διαβάσουμε ή γράψουμε στο κελ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orksheets(1).Cells(1, 1).Value = "Hello World!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b7"/>
                </a:solidFill>
                <a:latin typeface="Arial Black"/>
              </a:rPr>
              <a:t>ΠΡΟΒΛΗΜΑ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Ορισμός του προβλήματο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76212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14400" y="220968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ffffff"/>
                </a:solidFill>
                <a:uFillTx/>
                <a:latin typeface="Arial"/>
              </a:rPr>
              <a:t>Ζητούμενο: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Να βρεθεί το ελάχιστο τη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συνάρτηση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ffffff"/>
                </a:solidFill>
                <a:uFillTx/>
                <a:latin typeface="Arial"/>
              </a:rPr>
              <a:t>Μεθοδολογία: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Πρόγραμμα Η/Υ για τον υπολογισμό με τη μέθοδ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t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ffffff"/>
                </a:solidFill>
                <a:uFillTx/>
                <a:latin typeface="Arial"/>
              </a:rPr>
              <a:t>Αλγόριθμος: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Λεκτικά ο αλγόριθμος μπορεί να διατυπωθεί ως εξής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. Επιλέγω τυχαίο σημείο στο χώρο επίλυση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b7"/>
                </a:solidFill>
                <a:latin typeface="Arial Black"/>
              </a:rPr>
              <a:t>ΠΡΟΒΛΗΜΑ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Ορισμός του προβλήματο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6212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914400" y="220968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Β. Υπολογίζω το διάνυσμα κλίση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Γ. Στο διάστημα που ορίζεται από το διάνυσμα κλίσης υπολογίζω το σημείο που ελαχιστοποιεί τη συνάρτηση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Δ. Επαναλαμβάνω τα βήματα Β-Δ έως ότου η διαφορά δυο διαδοχικών σημείων να είναι μικρότερη από κάποια τιμ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ffffff"/>
                </a:solidFill>
                <a:uFillTx/>
                <a:latin typeface="Arial"/>
              </a:rPr>
              <a:t>Υπόδειγμα: 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http://www.chemeng.ntua.gr/main.php?course_details&amp;course=8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b7"/>
                </a:solidFill>
                <a:latin typeface="Arial Black"/>
              </a:rPr>
              <a:t>ΠΡΟΒΛΗΜΑ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Το πρόβλημα τεσ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76212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914400" y="220968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Συνάρτηση για ελαχιστοποίηση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3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5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Διάνυσμα κλίση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/∂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2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/∂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2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3) + 2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b7"/>
                </a:solidFill>
                <a:latin typeface="Arial Black"/>
              </a:rPr>
              <a:t>ΠΡΟΒΛΗΜΑ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Το πρόβλημα τεσ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76212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914400" y="2209680"/>
            <a:ext cx="76960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Υπολογισμό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D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με αριθμητική ανάλυση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εντρικές διαφορές για κάθε συνιστώσα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/∂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≈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 f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,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,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]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 2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/∂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≈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 f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)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-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) ]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 2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b7"/>
                </a:solidFill>
                <a:latin typeface="Arial Black"/>
              </a:rPr>
              <a:t>ΕΝΟΤΗΤΕ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ισαγωγή στο περιβάλλον εργασία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c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Basic E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Στήσιμο του προβλήματος στο παραπάνω περιβάλλο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Βήμα – Βήμα η επίλυσ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b7"/>
                </a:solidFill>
                <a:latin typeface="Arial Black"/>
              </a:rPr>
              <a:t>ΠΡΟΒΛΗΜΑ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Αλγόριθμο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76212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Straight Arrow Connector 8"/>
          <p:cNvCxnSpPr/>
          <p:nvPr/>
        </p:nvCxnSpPr>
        <p:spPr>
          <a:xfrm flipV="1">
            <a:off x="1143000" y="2590200"/>
            <a:ext cx="2820240" cy="1600920"/>
          </a:xfrm>
          <a:prstGeom prst="straightConnector1">
            <a:avLst/>
          </a:prstGeom>
          <a:ln w="38160">
            <a:solidFill>
              <a:srgbClr val="dadada"/>
            </a:solidFill>
            <a:miter/>
            <a:tailEnd len="med" type="arrow" w="med"/>
          </a:ln>
        </p:spPr>
      </p:cxnSp>
      <p:cxnSp>
        <p:nvCxnSpPr>
          <p:cNvPr id="170" name="Straight Arrow Connector 9"/>
          <p:cNvCxnSpPr/>
          <p:nvPr/>
        </p:nvCxnSpPr>
        <p:spPr>
          <a:xfrm flipV="1">
            <a:off x="1142640" y="4114800"/>
            <a:ext cx="1677240" cy="76680"/>
          </a:xfrm>
          <a:prstGeom prst="straightConnector1">
            <a:avLst/>
          </a:prstGeom>
          <a:ln w="38160">
            <a:solidFill>
              <a:srgbClr val="dadada"/>
            </a:solidFill>
            <a:miter/>
            <a:tailEnd len="med" type="arrow" w="med"/>
          </a:ln>
        </p:spPr>
      </p:cxnSp>
      <p:cxnSp>
        <p:nvCxnSpPr>
          <p:cNvPr id="171" name="Straight Arrow Connector 12"/>
          <p:cNvCxnSpPr/>
          <p:nvPr/>
        </p:nvCxnSpPr>
        <p:spPr>
          <a:xfrm flipV="1">
            <a:off x="151920" y="3885840"/>
            <a:ext cx="6325560" cy="381600"/>
          </a:xfrm>
          <a:prstGeom prst="straightConnector1">
            <a:avLst/>
          </a:prstGeom>
          <a:ln w="12600">
            <a:solidFill>
              <a:srgbClr val="dadada"/>
            </a:solidFill>
            <a:miter/>
          </a:ln>
        </p:spPr>
      </p:cxnSp>
      <p:sp>
        <p:nvSpPr>
          <p:cNvPr id="172" name="Rectangle 15"/>
          <p:cNvSpPr/>
          <p:nvPr/>
        </p:nvSpPr>
        <p:spPr>
          <a:xfrm>
            <a:off x="1684440" y="2895480"/>
            <a:ext cx="16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3" name="Straight Arrow Connector 17"/>
          <p:cNvCxnSpPr/>
          <p:nvPr/>
        </p:nvCxnSpPr>
        <p:spPr>
          <a:xfrm>
            <a:off x="2361960" y="2952720"/>
            <a:ext cx="229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sm"/>
          </a:ln>
        </p:spPr>
      </p:cxnSp>
      <p:sp>
        <p:nvSpPr>
          <p:cNvPr id="174" name="Rectangle 21"/>
          <p:cNvSpPr/>
          <p:nvPr/>
        </p:nvSpPr>
        <p:spPr>
          <a:xfrm>
            <a:off x="1837080" y="4267080"/>
            <a:ext cx="16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Straight Arrow Connector 22"/>
          <p:cNvCxnSpPr/>
          <p:nvPr/>
        </p:nvCxnSpPr>
        <p:spPr>
          <a:xfrm>
            <a:off x="2514240" y="4324320"/>
            <a:ext cx="229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sm"/>
          </a:ln>
        </p:spPr>
      </p:cxnSp>
      <p:sp>
        <p:nvSpPr>
          <p:cNvPr id="176" name="Rectangle 24"/>
          <p:cNvSpPr/>
          <p:nvPr/>
        </p:nvSpPr>
        <p:spPr>
          <a:xfrm>
            <a:off x="4047840" y="3581280"/>
            <a:ext cx="174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Straight Arrow Connector 25"/>
          <p:cNvCxnSpPr/>
          <p:nvPr/>
        </p:nvCxnSpPr>
        <p:spPr>
          <a:xfrm>
            <a:off x="4723920" y="3638520"/>
            <a:ext cx="229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sm"/>
          </a:ln>
        </p:spPr>
      </p:cxnSp>
      <p:cxnSp>
        <p:nvCxnSpPr>
          <p:cNvPr id="178" name="Straight Arrow Connector 26"/>
          <p:cNvCxnSpPr/>
          <p:nvPr/>
        </p:nvCxnSpPr>
        <p:spPr>
          <a:xfrm flipV="1">
            <a:off x="1143000" y="3961800"/>
            <a:ext cx="4039200" cy="229320"/>
          </a:xfrm>
          <a:prstGeom prst="straightConnector1">
            <a:avLst/>
          </a:prstGeom>
          <a:ln w="12600">
            <a:solidFill>
              <a:srgbClr val="dadada"/>
            </a:solidFill>
            <a:miter/>
            <a:tailEnd len="med" type="triangle" w="med"/>
          </a:ln>
        </p:spPr>
      </p:cxnSp>
      <p:cxnSp>
        <p:nvCxnSpPr>
          <p:cNvPr id="179" name="Straight Arrow Connector 31"/>
          <p:cNvCxnSpPr/>
          <p:nvPr/>
        </p:nvCxnSpPr>
        <p:spPr>
          <a:xfrm flipV="1">
            <a:off x="2514600" y="2285640"/>
            <a:ext cx="6325200" cy="381600"/>
          </a:xfrm>
          <a:prstGeom prst="straightConnector1">
            <a:avLst/>
          </a:prstGeom>
          <a:ln w="12600">
            <a:solidFill>
              <a:srgbClr val="dadada"/>
            </a:solidFill>
            <a:prstDash val="dash"/>
            <a:miter/>
          </a:ln>
        </p:spPr>
      </p:cxnSp>
      <p:cxnSp>
        <p:nvCxnSpPr>
          <p:cNvPr id="180" name="Straight Arrow Connector 32"/>
          <p:cNvCxnSpPr/>
          <p:nvPr/>
        </p:nvCxnSpPr>
        <p:spPr>
          <a:xfrm flipV="1">
            <a:off x="5181480" y="2361600"/>
            <a:ext cx="2820240" cy="1600920"/>
          </a:xfrm>
          <a:prstGeom prst="straightConnector1">
            <a:avLst/>
          </a:prstGeom>
          <a:ln w="12600">
            <a:solidFill>
              <a:srgbClr val="dadada"/>
            </a:solidFill>
            <a:prstDash val="dash"/>
            <a:miter/>
          </a:ln>
        </p:spPr>
      </p:cxnSp>
      <p:cxnSp>
        <p:nvCxnSpPr>
          <p:cNvPr id="181" name="Straight Arrow Connector 33"/>
          <p:cNvCxnSpPr/>
          <p:nvPr/>
        </p:nvCxnSpPr>
        <p:spPr>
          <a:xfrm flipV="1">
            <a:off x="1143000" y="2361960"/>
            <a:ext cx="6858720" cy="1829520"/>
          </a:xfrm>
          <a:prstGeom prst="straightConnector1">
            <a:avLst/>
          </a:prstGeom>
          <a:ln w="38160">
            <a:solidFill>
              <a:srgbClr val="dadada"/>
            </a:solidFill>
            <a:miter/>
            <a:tailEnd len="med" type="arrow" w="med"/>
          </a:ln>
        </p:spPr>
      </p:cxnSp>
      <p:sp>
        <p:nvSpPr>
          <p:cNvPr id="182" name="Rectangle 35"/>
          <p:cNvSpPr/>
          <p:nvPr/>
        </p:nvSpPr>
        <p:spPr>
          <a:xfrm>
            <a:off x="6983640" y="1905120"/>
            <a:ext cx="16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3" name="Straight Arrow Connector 36"/>
          <p:cNvCxnSpPr/>
          <p:nvPr/>
        </p:nvCxnSpPr>
        <p:spPr>
          <a:xfrm>
            <a:off x="7695720" y="1980720"/>
            <a:ext cx="22932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sm"/>
          </a:ln>
        </p:spPr>
      </p:cxnSp>
      <p:sp>
        <p:nvSpPr>
          <p:cNvPr id="184" name="Rectangle 42"/>
          <p:cNvSpPr/>
          <p:nvPr/>
        </p:nvSpPr>
        <p:spPr>
          <a:xfrm>
            <a:off x="7203600" y="1905120"/>
            <a:ext cx="200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a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5" name="Straight Arrow Connector 43"/>
          <p:cNvCxnSpPr/>
          <p:nvPr/>
        </p:nvCxnSpPr>
        <p:spPr>
          <a:xfrm>
            <a:off x="8264160" y="1980720"/>
            <a:ext cx="22932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sm"/>
          </a:ln>
        </p:spPr>
      </p:cxnSp>
      <p:sp>
        <p:nvSpPr>
          <p:cNvPr id="186" name="Rectangle 5"/>
          <p:cNvSpPr/>
          <p:nvPr/>
        </p:nvSpPr>
        <p:spPr>
          <a:xfrm>
            <a:off x="609480" y="4876920"/>
            <a:ext cx="8153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αρατηρούμε ότι το άθροισμα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a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ορίζει μια ευθεία για το σημεί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οποία έχει μόνη παράμετρο την μεταβλητή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, όπο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ίναι η διεύθυνση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)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τη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(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7" name="Straight Arrow Connector 45"/>
          <p:cNvCxnSpPr/>
          <p:nvPr/>
        </p:nvCxnSpPr>
        <p:spPr>
          <a:xfrm>
            <a:off x="5486040" y="4952520"/>
            <a:ext cx="30564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sm"/>
          </a:ln>
        </p:spPr>
      </p:cxnSp>
      <p:cxnSp>
        <p:nvCxnSpPr>
          <p:cNvPr id="188" name="Straight Arrow Connector 46"/>
          <p:cNvCxnSpPr/>
          <p:nvPr/>
        </p:nvCxnSpPr>
        <p:spPr>
          <a:xfrm>
            <a:off x="6248520" y="4952520"/>
            <a:ext cx="3052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sm"/>
          </a:ln>
        </p:spPr>
      </p:cxnSp>
      <p:sp>
        <p:nvSpPr>
          <p:cNvPr id="189" name="Rectangle 50"/>
          <p:cNvSpPr/>
          <p:nvPr/>
        </p:nvSpPr>
        <p:spPr>
          <a:xfrm>
            <a:off x="-448560" y="3809880"/>
            <a:ext cx="2367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Σημείο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l-GR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0" name="Straight Arrow Connector 51"/>
          <p:cNvCxnSpPr/>
          <p:nvPr/>
        </p:nvCxnSpPr>
        <p:spPr>
          <a:xfrm>
            <a:off x="4952520" y="6248520"/>
            <a:ext cx="3056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sm"/>
          </a:ln>
        </p:spPr>
      </p:cxn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b7"/>
                </a:solidFill>
                <a:latin typeface="Arial Black"/>
              </a:rPr>
              <a:t>ΠΡΟΒΛΗΜΑ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Αλγόριθμο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μέθοδο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76212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914400" y="2209680"/>
            <a:ext cx="76960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[ f(x) ] → min [ 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a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] → min[ g(a) ],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όπο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= μήκος της έρευνας και είναι πραγματικός αριθμό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Για να υπολογίσουμε τ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ρέπει ουσιαστικά να λύσουμε την εξίσωση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΄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= 0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ή την μετασχηματισμένη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(a)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" name="Straight Arrow Connector 5"/>
          <p:cNvCxnSpPr/>
          <p:nvPr/>
        </p:nvCxnSpPr>
        <p:spPr>
          <a:xfrm>
            <a:off x="1980720" y="2362320"/>
            <a:ext cx="229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sm"/>
          </a:ln>
        </p:spPr>
      </p:cxnSp>
      <p:cxnSp>
        <p:nvCxnSpPr>
          <p:cNvPr id="196" name="Straight Arrow Connector 6"/>
          <p:cNvCxnSpPr/>
          <p:nvPr/>
        </p:nvCxnSpPr>
        <p:spPr>
          <a:xfrm>
            <a:off x="4114440" y="2362320"/>
            <a:ext cx="229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sm"/>
          </a:ln>
        </p:spPr>
      </p:cxnSp>
      <p:cxnSp>
        <p:nvCxnSpPr>
          <p:cNvPr id="197" name="Straight Arrow Connector 7"/>
          <p:cNvCxnSpPr/>
          <p:nvPr/>
        </p:nvCxnSpPr>
        <p:spPr>
          <a:xfrm>
            <a:off x="4876560" y="2362320"/>
            <a:ext cx="229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sm"/>
          </a:ln>
        </p:spPr>
      </p:cxn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b7"/>
                </a:solidFill>
                <a:latin typeface="Arial Black"/>
              </a:rPr>
              <a:t>ΠΡΟΒΛΗΜΑ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Αλγόριθμο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μέθοδο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76212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914400" y="2209680"/>
            <a:ext cx="7696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Για τον υπολογισμό της ρίζας της συνάρτηση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= 0 θα χρησιμοποιήσουμε τη μέθοδ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ton Raphson,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έτσ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g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΄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-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Όπου ο υπολογισμός των παραπάνω παραγώγων βάση της γνωστής προσέγγιση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Φ΄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≈ [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Φ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) –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Φ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/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b7"/>
                </a:solidFill>
                <a:latin typeface="Arial Black"/>
              </a:rPr>
              <a:t>ΠΡΟΒΛΗΜΑ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Αλγόριθμο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μέθοδο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76212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914400" y="2209680"/>
            <a:ext cx="8077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ρίζοντας για το πρόβλημά μας ότι 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= (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(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οποιαδήποτε μεταβολή της τιμής το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ουσιαστικά ορίζεται με μεταβολή το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,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τότ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΄΄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-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= [ g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-g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΄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-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]/(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-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΄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=[ g(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-g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]/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΄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-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=[ g(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l-GR" sz="2800" spc="-1" strike="noStrike" baseline="-25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-g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-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] /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Δεδομένου ότ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(a) =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(a+da)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6" name="Straight Arrow Connector 5"/>
          <p:cNvCxnSpPr/>
          <p:nvPr/>
        </p:nvCxnSpPr>
        <p:spPr>
          <a:xfrm>
            <a:off x="4343040" y="5715000"/>
            <a:ext cx="229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sm"/>
          </a:ln>
        </p:spPr>
      </p:cxnSp>
      <p:cxnSp>
        <p:nvCxnSpPr>
          <p:cNvPr id="207" name="Straight Arrow Connector 6"/>
          <p:cNvCxnSpPr/>
          <p:nvPr/>
        </p:nvCxnSpPr>
        <p:spPr>
          <a:xfrm>
            <a:off x="5943240" y="5715000"/>
            <a:ext cx="229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sm"/>
          </a:ln>
        </p:spPr>
      </p:cxn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b7"/>
                </a:solidFill>
                <a:latin typeface="Arial Black"/>
              </a:rPr>
              <a:t>ΠΡΟΒΛΗΜΑ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Αλγόριθμο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μέθοδο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76212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914400" y="2209680"/>
            <a:ext cx="8077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Έτσι επαναληπτικά μπορούμε να υπολογίσουμε την τιμή το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,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άρα και το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για την οποία η συνάρτηση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έχει ελάχιστο στην ευθεία που ορίζεται από τη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Έτσι στο νέο σημείο που υπολογίσαμε από την παραπάνω διαδικασία υπολογίζουμε ξανά το διάνυσμα κλίσης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) και η διαδικασία επαναλαμβάνεται έως ότου συγκλίνει η μέθοδος σε μια λύσ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5"/>
          <p:cNvCxnSpPr/>
          <p:nvPr/>
        </p:nvCxnSpPr>
        <p:spPr>
          <a:xfrm>
            <a:off x="5866920" y="2743200"/>
            <a:ext cx="229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sm"/>
          </a:ln>
        </p:spPr>
      </p:cxnSp>
      <p:cxnSp>
        <p:nvCxnSpPr>
          <p:cNvPr id="213" name="Straight Arrow Connector 7"/>
          <p:cNvCxnSpPr/>
          <p:nvPr/>
        </p:nvCxnSpPr>
        <p:spPr>
          <a:xfrm>
            <a:off x="4384440" y="3638520"/>
            <a:ext cx="229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sm"/>
          </a:ln>
        </p:spPr>
      </p:cxnSp>
      <p:sp>
        <p:nvSpPr>
          <p:cNvPr id="214" name="Rectangle 8"/>
          <p:cNvSpPr/>
          <p:nvPr/>
        </p:nvSpPr>
        <p:spPr>
          <a:xfrm>
            <a:off x="3701520" y="3581280"/>
            <a:ext cx="222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Χ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a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5" name="Straight Arrow Connector 9"/>
          <p:cNvCxnSpPr/>
          <p:nvPr/>
        </p:nvCxnSpPr>
        <p:spPr>
          <a:xfrm>
            <a:off x="4952520" y="3638520"/>
            <a:ext cx="229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sm"/>
          </a:ln>
        </p:spPr>
      </p:cxn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BHMA - BHM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ρώ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βήμα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76212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914400" y="2209680"/>
            <a:ext cx="8077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1066680" y="2362320"/>
            <a:ext cx="8077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ρχικές τιμές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Χ</a:t>
            </a:r>
            <a:r>
              <a:rPr b="0" lang="el-GR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=(10,-2), 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= 0.001 (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για τον υπολογισμό το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),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=10</a:t>
            </a:r>
            <a:r>
              <a:rPr b="0" lang="el-GR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αι κριτήριο σύγκλισης το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search da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=10</a:t>
            </a:r>
            <a:r>
              <a:rPr b="0" lang="el-GR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Υπολογίζω τ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 = (92, -47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διάνυσμα κατεύθυνση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=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 = (-92, 47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Υποθέτω μια αρχική τιμή για τ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0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αι για τ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.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BHMA - BHM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ρώ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βήμα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76212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914400" y="2209680"/>
            <a:ext cx="8077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066680" y="2362320"/>
            <a:ext cx="8077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Υπολογισμός τω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΄ στ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αι στ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l-GR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διάνυσμα κατεύθυνση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 = (-92, 47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Υποθέτω μια αρχική τιμή για τ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0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αι για τ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l-GR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.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=[g(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-g(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]/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(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= 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(10, -2)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α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+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(9.999908, -1.99953)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6" name="Straight Arrow Connector 36"/>
          <p:cNvCxnSpPr/>
          <p:nvPr/>
        </p:nvCxnSpPr>
        <p:spPr>
          <a:xfrm>
            <a:off x="3047760" y="5409720"/>
            <a:ext cx="22932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sm"/>
          </a:ln>
        </p:spPr>
      </p:cxnSp>
      <p:cxnSp>
        <p:nvCxnSpPr>
          <p:cNvPr id="227" name="Straight Arrow Connector 43"/>
          <p:cNvCxnSpPr/>
          <p:nvPr/>
        </p:nvCxnSpPr>
        <p:spPr>
          <a:xfrm>
            <a:off x="3885840" y="5409720"/>
            <a:ext cx="22932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sm"/>
          </a:ln>
        </p:spPr>
      </p:cxnSp>
      <p:cxnSp>
        <p:nvCxnSpPr>
          <p:cNvPr id="228" name="Straight Arrow Connector 36"/>
          <p:cNvCxnSpPr/>
          <p:nvPr/>
        </p:nvCxnSpPr>
        <p:spPr>
          <a:xfrm>
            <a:off x="1752120" y="5942160"/>
            <a:ext cx="229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sm"/>
          </a:ln>
        </p:spPr>
      </p:cxnSp>
      <p:cxnSp>
        <p:nvCxnSpPr>
          <p:cNvPr id="229" name="Straight Arrow Connector 43"/>
          <p:cNvCxnSpPr/>
          <p:nvPr/>
        </p:nvCxnSpPr>
        <p:spPr>
          <a:xfrm>
            <a:off x="2590560" y="5942160"/>
            <a:ext cx="229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sm"/>
          </a:ln>
        </p:spPr>
      </p:cxn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BHMA - BHM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ρώ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βήμα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76212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14400" y="2209680"/>
            <a:ext cx="8077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066680" y="2362320"/>
            <a:ext cx="8077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ντικαθιστώντας έχουμ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=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 g({9.999908, -1.99953}) - g({10, -2}) ] / 0.001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[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577.7669 – 578.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0.001 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233113.5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Όμοια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΄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 g({9.907908, -1.52553}) - g({9.908, -1.526}) ] / 0.001 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-181442.7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Έτσι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΄΄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= (-181442.71+233113.52)/(0.001-0) = 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5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67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814.9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5.167x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BHMA - BHM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ρώ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βήμα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76212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914400" y="2209680"/>
            <a:ext cx="8077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066680" y="2362320"/>
            <a:ext cx="8077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Έτσι η επόμενη τιμή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ροκύπτει από την αναδρομική σχέση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l-GR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= α</a:t>
            </a:r>
            <a:r>
              <a:rPr b="0" lang="el-GR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΄(α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)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΄΄(α</a:t>
            </a:r>
            <a:r>
              <a:rPr b="0" lang="el-GR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) = 0.001 +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-181442.71 /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67x107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004511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παναλαμβάνοντας τα βήματα θα βρούμ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0049403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da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88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00498981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48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00499049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49x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&lt; 1x10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BHMA - BHM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Επόμενα βήματ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76212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914400" y="2209680"/>
            <a:ext cx="8077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066680" y="2362320"/>
            <a:ext cx="8077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Για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= 0.00499049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ντιστοιχεί η επόμενη τιμή του διάνυσματο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l-GR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54087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36549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παναλαμβάνουμε τη διαδικασία έως ότου συγκλίνουν οι τιμές τω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ριτήριο σύγκλισης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* Norm(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b7"/>
                </a:solidFill>
                <a:latin typeface="Arial Black"/>
              </a:rPr>
              <a:t>ΠΕΡΙΒΑΛΛΟΝ ΕΡΓΑΣΙΑ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cel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αρέχει το απαραίτητο περιβάλλον ανάπτυξης απλών αλλά και πιο σύνθετων επιστημονικών προβλημάτων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ύχρηστο περιβάλλον για εκτέλεση απλών μαθηματικών πράξεων και της γραφικής απεικόνισής του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παιτητικά προβλήματα: Μακροεντολές κα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Ba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b7"/>
                </a:solidFill>
                <a:latin typeface="Arial Black"/>
              </a:rPr>
              <a:t>Υποστηρικτικό Υλικό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76212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914400" y="2209680"/>
            <a:ext cx="8077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1066680" y="2362320"/>
            <a:ext cx="8077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Υποστηρικτικό υλικό για το μάθημα (παρουσίαση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με μακροεντολέ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Μπορείτε να κατεβάσετε από την διεύθυνση του εργαστηρίο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ttp://www.empedocles.eu/Courses.asp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b7"/>
                </a:solidFill>
                <a:latin typeface="Arial Black"/>
              </a:rPr>
              <a:t>ΜΑΚΡΟΕΝΤΟΛΕ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Οι μακροεντολές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cros)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δίνουν τη δυνατότητα προγραμματισμού αυτοματοποιημένων διαδικασιώ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Στην περίπτωση του μαθήματος μας ενδιαφέρει ο προγραμματισμός σ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Basic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μέσα από τις μακροεντολέ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b7"/>
                </a:solidFill>
                <a:latin typeface="Arial Black"/>
              </a:rPr>
              <a:t>ΜΑΚΡΟΕΝΤΟΛΕ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ροκαταρκτικά για τη χρήση μακροεντολώ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6212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Οι μακροεντολές δημιουργούν προβλήματα ασφάλειας διότι μπορούν να περιέχουν επιβλαβή προγράμματα. Έτσι στ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οι μακροεντολές είναι αρχικά απενεργοποιημένες. Για να μπορέσουμε να τις χρησιμοποιήσουμε θα πρέπει να ακολουθήσουμε τα παρακάτω βήματα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b7"/>
                </a:solidFill>
                <a:latin typeface="Arial Black"/>
              </a:rPr>
              <a:t>ΜΑΚΡΟΕΝΤΟΛΕ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ροκαταρκτικά για τη χρήση μακροεντολώ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options"/>
          <p:cNvPicPr/>
          <p:nvPr/>
        </p:nvPicPr>
        <p:blipFill>
          <a:blip r:embed="rId1"/>
          <a:stretch/>
        </p:blipFill>
        <p:spPr>
          <a:xfrm>
            <a:off x="5715000" y="1828800"/>
            <a:ext cx="3200400" cy="2089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options2"/>
          <p:cNvPicPr/>
          <p:nvPr/>
        </p:nvPicPr>
        <p:blipFill>
          <a:blip r:embed="rId2"/>
          <a:stretch/>
        </p:blipFill>
        <p:spPr>
          <a:xfrm>
            <a:off x="838080" y="3200400"/>
            <a:ext cx="3581640" cy="28558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45720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πενεργοποίηση της ασφάλεια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0" descr="options3"/>
          <p:cNvPicPr/>
          <p:nvPr/>
        </p:nvPicPr>
        <p:blipFill>
          <a:blip r:embed="rId3"/>
          <a:stretch/>
        </p:blipFill>
        <p:spPr>
          <a:xfrm>
            <a:off x="5105520" y="4038480"/>
            <a:ext cx="3276360" cy="26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b7"/>
                </a:solidFill>
                <a:latin typeface="Arial Black"/>
              </a:rPr>
              <a:t>ΜΑΚΡΟΕΝΤΟΛΕ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ice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e/Options/Trust Center/Trust Center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576288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b7"/>
                </a:solidFill>
                <a:latin typeface="Arial Black"/>
              </a:rPr>
              <a:t>ΜΑΚΡΟΕΝΤΟΛΕ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ροκαταρκτικά για τη χρήση μακροεντολώ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533520" y="2057400"/>
            <a:ext cx="83055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ως βρίσκω μια μακροεντολή που ήδη υπάρχε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σε ένα αρχεί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it: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Βλέπω τον κώδικα και κάνω αλλαγέ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Into: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Ξεκινάω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3352680" cy="2325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5257800" y="3200400"/>
            <a:ext cx="294336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b7"/>
                </a:solidFill>
                <a:latin typeface="Arial Black"/>
              </a:rPr>
              <a:t>ΜΑΚΡΟΕΝΤΟΛΕ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ice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u/Option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stomize ribb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‘Developer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help http://msdn.microsoft.com/en-us/library/ee814737.a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3894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5:34:34Z</dcterms:created>
  <dc:creator>nmand</dc:creator>
  <dc:description/>
  <dc:language>en-US</dc:language>
  <cp:lastModifiedBy>nmand</cp:lastModifiedBy>
  <dcterms:modified xsi:type="dcterms:W3CDTF">2011-12-07T16:00:45Z</dcterms:modified>
  <cp:revision>41</cp:revision>
  <dc:subject/>
  <dc:title>ΠΡΟΧΩΡΗΜΕΝΕΣ ΜΕΘΟΔΟΙ ΣΧΕΔΙΑΣΜΟΥ ΧΗΜΙΚΩΝ ΒΙΟΜΗΧΑΝΙΩΝ (9ο ΕΞΑΜΗΝΟ)</dc:title>
</cp:coreProperties>
</file>