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91C-C844-40D4-8FFB-3DDE006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196-2435-4E27-A821-2C4110C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C16-6557-4FEA-9044-9DF5A60A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E40-E1CA-4D36-A1C2-FC11C99C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1B90-6549-41D8-A048-60E414C9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7173-A22E-4148-B14B-A16A8FB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4761-92D2-484D-8538-4809C3D9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5068-B8E2-46D7-B71F-8BA13F3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37D-B9CB-4B43-97C3-48D7F96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2374-3B7B-4142-B604-7A2DFDF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8B14-A06E-4435-8C91-5EEA826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C4A-F300-47CC-A862-AF7CB99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29C6-BE6D-4639-AD90-A771B25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4F6C-0A9E-4D30-ACEE-0E62391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60EF-4E23-4BC9-9A5E-D2DE3233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A7A6-53B7-4AFB-86D6-FCB1AB1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8711-16AB-446F-A62C-8C70D7D3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E47-4E45-4043-BB94-796C9189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1F7-FD7C-428E-B803-B1CDF25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895-75F6-460A-A686-3466BD9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546-DC96-4C95-8DE8-2BC641CF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C16-60F5-47D6-839F-9B57841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05A-F003-4F39-B8C0-8399CEB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F82-2DA2-4D33-B8BC-2060924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3694-7AEF-42B1-9BFD-A28CB2AE14C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645A-2CE2-4902-A0FB-7354A4655E71}" type="slidenum">
              <a:rPr b="0" lang="el-G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nmand@central.ntua.gr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nmand@central.ntua.gr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ΘΕΜΑ 2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Άσκηση εφαρμογής της μεθόδο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 Raph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Μέθοδο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wton-Raphson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 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ια να βρούμε τις ρίζες ρ=(ρ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ρ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..,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 της εξίσωση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x)=0,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οποία έχει γνωστή παράγωγ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’(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σε μια τιμή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η γειτονί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ης ρίζας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ό το ανάπτυγμ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ylor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ώτου βαθμού θα έχουμε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αι ισοδύναμα προκύπτει η προσέγγισ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ης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2349360" y="3876840"/>
                <a:ext cx="537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826920" y="5084640"/>
                <a:ext cx="63374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Up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Μέθοδο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wton-Raphson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 Ι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η σχέση 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 η τιμή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ίναι μια καλύτερη προσέγγιση της ρίζας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παναλαμβάνοντας την διαδικασία της 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 θεωρώντας ως αρχική τιμή την προσέγγισ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στη θέση τη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 προκύπτει η επαναληπτική σχέση που ορίζει την μέθοδ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ton-Raph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οποία σχέση τερματίζεται όταν η εκτίμηση του σφάλματο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ίναι μικρότερη από μια επιθυμητή τιμή ανοχής: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Γεωμετρική ερμηνεία της μεθόδου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24000" y="2766600"/>
            <a:ext cx="482580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σχήμα δεξιά παρατηρούμε την γεωγραφική ερμηνεία της μεθόδ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στω ένα σημεί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το οποίο θεωρούμε ως την πρώτη προσέγγιση στη ρίζα. Παίρνοντας την εφαπτομένη της καμπύλης στο σημεί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ροσδιορίζουμε ένα νέο σημεί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την τομή της εφαπτομένης με τον άξον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.ο.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9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9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1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7" descr="img244"/>
          <p:cNvPicPr/>
          <p:nvPr/>
        </p:nvPicPr>
        <p:blipFill>
          <a:blip r:embed="rId6"/>
          <a:stretch/>
        </p:blipFill>
        <p:spPr>
          <a:xfrm>
            <a:off x="5148360" y="1197000"/>
            <a:ext cx="36669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Υπολογισμός της παραγώγο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7"/>
              <p:cNvSpPr txBox="1"/>
              <p:nvPr/>
            </p:nvSpPr>
            <p:spPr>
              <a:xfrm>
                <a:off x="2124000" y="5805360"/>
                <a:ext cx="4319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1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4375080" y="4567320"/>
                <a:ext cx="394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25"/>
          <p:cNvSpPr/>
          <p:nvPr/>
        </p:nvSpPr>
        <p:spPr>
          <a:xfrm>
            <a:off x="324000" y="1987200"/>
            <a:ext cx="835164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πραγματικά προβλήματα ο υπολογισμός της πρώτης παραγώγου της συνάρτ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είναι εφικτό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φενός μεν λόγω της πολυπλοκότητας των αλγεβρικών πράξεων που απαιτούνται κα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φετέρου διότι σε πραγματικά προβλήματα η εξίσωσ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ύνατα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είναι πεπλεγμένη και να μην είναι δυνατή η ανάλυσή τ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ους λόγους αυτούς η πρώτη παράγωγο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x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προσεγγιστεί από την σχέση του ορισμού τη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λύτερα αποτελέσματα μπορούν να επιτευχθούν από τη σχέση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κτίμηση των αρχικών τιμών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11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0"/>
          <p:cNvSpPr/>
          <p:nvPr/>
        </p:nvSpPr>
        <p:spPr>
          <a:xfrm>
            <a:off x="324000" y="2000160"/>
            <a:ext cx="835164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πως κάθε μεθοδολογία της αριθμητικής ανάλυσης που εξαρτάται από αρχικές τιμές, έτσι και η μεθοδολογί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 Raphs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ην εύρεση των ριζών εξίσωσης εξαρτάται ιδιαίτερα από τις αρχικές τιμέ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λανθασμένη εκτίμηση των αρχικών τιμών είναι δυνατόν να οδηγήσει στην μη εύρεση όλων των ριζών της εξίσωσης ή σε αέναες επαναλήψεις χωρίς σύγκλιση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πραγματικά προβλήματα η εκτίμηση των αρχικών τιμών γίνεται βάσει εμπειρίας ή με τη χρήση μιας δεύτερης μεθοδολογίας για τον χονδροειδή υπολογισμό των αρχικών τιμών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πιο συνηθισμένο σε τέτοιες περιπτώσεις είναι η διερεύνηση στο πεδίου ορισμού της συνάρτησης για τον υπολογισμό των αρχικών τιμών με τη μέθοδο της διχοτόμηση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κτίμηση των αρχικών τιμών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5"/>
          <p:cNvSpPr/>
          <p:nvPr/>
        </p:nvSpPr>
        <p:spPr>
          <a:xfrm>
            <a:off x="324000" y="196524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ύμφωνα με την αρχή της μεθόδου της διχοτόμησης όταν σε ένα διάστημα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]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χύει ότ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a)f(b)&lt;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ότε υπάρχει τουλάχιστον μια ρίζα στο διάστημα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έβαια πρέπει να δοθεί ιδιαίτερη προσοχή στην περίπτωση που στο διάστημα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]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άρχουν περισσότερες της μιας ρίζες, οπότε δεν ισχύει και η παραπάνω συνθήκ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ο λόγο αυτό σε κάθε πρόβλημα θα πρέπει να λαμβάνονται υπόψη όλες οι παράμετροι του προβλήματος και να συνεκτιμώνται ώστε η επίλυση να προσεγγίζει όσο το δυνατόν περισσότερο στην πραγματικότητ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58800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3399"/>
                </a:solidFill>
                <a:latin typeface="Tahoma"/>
              </a:rPr>
              <a:t>Επίλυση του προβλήματος με τη μέθοδο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ewton Raphs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Ψευτοκώδικας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ewton Raphs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5"/>
          <p:cNvSpPr/>
          <p:nvPr/>
        </p:nvSpPr>
        <p:spPr>
          <a:xfrm>
            <a:off x="1763640" y="2035440"/>
            <a:ext cx="561816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T 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T i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T i=i+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f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 f(x-h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 f(x+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f’(x)=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)-f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)]/2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’(x)=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(x) = 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o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suc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=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h                     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x-f(x)/f’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6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&gt;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exit 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s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x) &lt; to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go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0 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 go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=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E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16160" y="1752480"/>
            <a:ext cx="24476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P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, tol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ώδικας σε γλώσσα προγραμματισμού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395280" y="2222640"/>
            <a:ext cx="83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ι βασικές αρχές για να δημιουργηθεί ένα πρόγραμμα που θα επιλύει το παραπάνω πρόβλημα είνα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395280" y="3027960"/>
            <a:ext cx="83520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σκευή μιας ρουτίνας εισαγωγής αρχικών τιμών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, h, t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αράδειγμ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 Ανάγνωσ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CI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χείο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ORTRAN)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ή αν χρησιμοποιηθεί κάποια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λώσσα ένας διάλογος που ζητάει να του δώσουμε τις τιμέ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, h, t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σκευ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ω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υ θα υπολογίζουν την τιμή της συνάρτησης και την τιμή της παραγώγου της συνάρτη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σκευή ενό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υ θα υπολογίζει την εκτίμηση σφάλματο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σκευή ενό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rout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ή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οποίο θα εκτελεί μέχρ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s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τον υπολογισμό της νέας τιμής το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άσει του αναγωγικού τύπο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η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ton Raphs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 η εκτέλεση ήταν επιτυχής τότε καταγραφή σε αρχείο των αποτελεμάτων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TRAN)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ή ενημέρωση του χρήστη μέσω κατάλληλου διαλόγου. Σε αντίθετη περίπτωση ενημέρωση του χρήστη (αρχείο ή διάλογος) ότι η μεθοδολογία απέτυχε σε τόσους κύκλου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ΡΩΤΗΜΑ Α.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5"/>
          <p:cNvSpPr/>
          <p:nvPr/>
        </p:nvSpPr>
        <p:spPr>
          <a:xfrm>
            <a:off x="395280" y="2104560"/>
            <a:ext cx="835200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ρχικές τιμέ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σχέση (εξ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είναι πολυώνυμο 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βαθμού. Οπότε περιμένουμε να έχει μέχρι και 4εις ρίζε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πό τις οποίες μόνον η μια θα έχει φυσική σημασία και οι υπόλοιπες θα πρέπει να απορριφθού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εδομένης της στοιχειομετρίας του προβλήματος η τιμή το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υ θα είναι αποδεκτή είναι εντός τους διαστήματος [0, 3], δηλαδή από το να αντιδράσει όλο το Ο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μετατόπιση της ισορροπίας δεξιά) μέχρι να μην αντιδράσει καθόλου (μετατόπιση της ισορροπίας αριστερά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 μπορούμε να δώσουμε ως αρχική τιμή είτε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0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ηλαδή ότι δεν αντέδρασε καθόλου), είτ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3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δηλαδή ότι αντέδρασε όλο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95280" y="4211640"/>
            <a:ext cx="835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Θέμα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1200" y="206064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Η ακόλουθη αντίδραση πραγματοποιείται σε έναν αντιδραστήρα αέριας φάση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  <a:ea typeface="Arial"/>
              </a:rPr>
              <a:t>↔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Όταν το σύστημα φτάσει σε ισορροπία στους 600Κ και 1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m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, τα μοριακά κλάσματα στο παραγόμενο αέριο μίγμα ικανοποιούν την ακόλουθη σχέσ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Γράψτε πρόγραμμα σε μια γλώσσα προγραμματισμού (προτεινόμενη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TRAN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) που να χρησιμοποιεί την μέθοδο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ton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phson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για τον υπολογισμό του μείγματος ισορροπίας: δηλαδή υπολογίστε πόσα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 H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 απαρτίζουν το μείγμα ισορροπία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Υπόδειξη: Υπολογίστε την ποσότητα του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που έχει καταναλωθεί (αντιδράσει) στην περίπτωση που η αντίδραση κινείται δεξιά ή την ποσότητα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που έχει παραχθεί στην περίπτωση που η αντίδραση κινείται αριστερά για να επιτευχθεί ισορροπία στους 600Κ και 1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m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03280" y="5784840"/>
          <a:ext cx="6840720" cy="503280"/>
        </p:xfrm>
        <a:graphic>
          <a:graphicData uri="http://schemas.openxmlformats.org/drawingml/2006/table">
            <a:tbl>
              <a:tblPr/>
              <a:tblGrid>
                <a:gridCol w="1711440"/>
                <a:gridCol w="1709640"/>
                <a:gridCol w="1709640"/>
                <a:gridCol w="1710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484360" y="2924280"/>
                <a:ext cx="3718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45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1403280" y="5229360"/>
          <a:ext cx="6840720" cy="50328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10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03280" y="6327720"/>
          <a:ext cx="6840720" cy="503280"/>
        </p:xfrm>
        <a:graphic>
          <a:graphicData uri="http://schemas.openxmlformats.org/drawingml/2006/table">
            <a:tbl>
              <a:tblPr/>
              <a:tblGrid>
                <a:gridCol w="1711440"/>
                <a:gridCol w="1709640"/>
                <a:gridCol w="1709640"/>
                <a:gridCol w="1710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ΡΩΤΗΜΑ Α.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5"/>
          <p:cNvSpPr/>
          <p:nvPr/>
        </p:nvSpPr>
        <p:spPr>
          <a:xfrm>
            <a:off x="1187280" y="1839960"/>
            <a:ext cx="59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ρχική τιμή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=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95280" y="239832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άμετροι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=0.001, tol=1e-5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ιθμό επαναλήψεων τις 50 φορέ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95280" y="3263760"/>
            <a:ext cx="835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2997360"/>
          <a:ext cx="8291520" cy="3289320"/>
        </p:xfrm>
        <a:graphic>
          <a:graphicData uri="http://schemas.openxmlformats.org/drawingml/2006/table">
            <a:tbl>
              <a:tblPr/>
              <a:tblGrid>
                <a:gridCol w="1020600"/>
                <a:gridCol w="1020960"/>
                <a:gridCol w="1104840"/>
                <a:gridCol w="1044720"/>
                <a:gridCol w="1003320"/>
                <a:gridCol w="930240"/>
                <a:gridCol w="1020600"/>
                <a:gridCol w="11462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.63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.26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.99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63.496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9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9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61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77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449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60.61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9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1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10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18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03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75.44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8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7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8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82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4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0.94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8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4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6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7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3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7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9.13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4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8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6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6.9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2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6.82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ΡΩΤΗΜΑ Α.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5"/>
          <p:cNvSpPr/>
          <p:nvPr/>
        </p:nvSpPr>
        <p:spPr>
          <a:xfrm>
            <a:off x="1187280" y="183996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ρχική τιμ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x=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95280" y="239832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άμετροι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=0.001, tol=1e-5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ιθμό επαναλήψεων τις 50 φορέ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395280" y="3263760"/>
            <a:ext cx="835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2997360"/>
          <a:ext cx="8291520" cy="2487600"/>
        </p:xfrm>
        <a:graphic>
          <a:graphicData uri="http://schemas.openxmlformats.org/drawingml/2006/table">
            <a:tbl>
              <a:tblPr/>
              <a:tblGrid>
                <a:gridCol w="1020600"/>
                <a:gridCol w="1020960"/>
                <a:gridCol w="1104840"/>
                <a:gridCol w="1044720"/>
                <a:gridCol w="1003320"/>
                <a:gridCol w="930240"/>
                <a:gridCol w="1020600"/>
                <a:gridCol w="11462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.14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.15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.13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9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2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5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90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2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2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0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1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9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5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2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09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99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2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2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0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99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2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2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ΡΩΤΗΜΑ Α.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5"/>
          <p:cNvSpPr/>
          <p:nvPr/>
        </p:nvSpPr>
        <p:spPr>
          <a:xfrm>
            <a:off x="395280" y="211104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τσι βρέθηκαν δυο λύσεις για τις δυο αρχικές τιμέ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95280" y="2587320"/>
            <a:ext cx="8352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ύση Ι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τέδρασα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=2.084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άρα η σύσταση του τελικού μείγματος ισορροπίας στου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K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είνα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2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2.915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0.915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2.084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2.084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02"/>
          <p:cNvSpPr/>
          <p:nvPr/>
        </p:nvSpPr>
        <p:spPr>
          <a:xfrm>
            <a:off x="396720" y="4067280"/>
            <a:ext cx="8352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ύση ΙΙ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τέδρασα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7223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άρα η σύσταση του τελικού μείγματος ισορροπίας στου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K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είνα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2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.277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-0.722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3.722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3.7223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 ΛΥΣΗ ΙΙ ΔΕΝ ΜΠΟΡΕΙ ΝΑ ΕΧΕΙ ΦΥΣΙΚΗ ΣΗΜΑΣΙΑ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ΕΡΩΤΗΜΑ Α.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-4138560" y="4176720"/>
          <a:ext cx="1662120" cy="1189080"/>
        </p:xfrm>
        <a:graphic>
          <a:graphicData uri="http://schemas.openxmlformats.org/drawingml/2006/table">
            <a:tbl>
              <a:tblPr/>
              <a:tblGrid>
                <a:gridCol w="1446120"/>
                <a:gridCol w="216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icture 10" descr="$x_{0} $"/>
          <p:cNvPicPr/>
          <p:nvPr/>
        </p:nvPicPr>
        <p:blipFill>
          <a:blip r:embed="rId1"/>
          <a:stretch/>
        </p:blipFill>
        <p:spPr>
          <a:xfrm>
            <a:off x="-2176560" y="349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\left(x_0 ,f(x_0)\right)$"/>
          <p:cNvPicPr/>
          <p:nvPr/>
        </p:nvPicPr>
        <p:blipFill>
          <a:blip r:embed="rId2"/>
          <a:stretch/>
        </p:blipFill>
        <p:spPr>
          <a:xfrm>
            <a:off x="9558360" y="349200"/>
            <a:ext cx="743040" cy="31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$x_1$"/>
          <p:cNvPicPr/>
          <p:nvPr/>
        </p:nvPicPr>
        <p:blipFill>
          <a:blip r:embed="rId3"/>
          <a:stretch/>
        </p:blipFill>
        <p:spPr>
          <a:xfrm>
            <a:off x="-3240000" y="6382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$x_1$"/>
          <p:cNvPicPr/>
          <p:nvPr/>
        </p:nvPicPr>
        <p:blipFill>
          <a:blip r:embed="rId4"/>
          <a:stretch/>
        </p:blipFill>
        <p:spPr>
          <a:xfrm>
            <a:off x="-1693800" y="33066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\begin{displaymath}&#10;x_1 = x_0 - \frac{f(x_0)}{f'(x_0)} \, .&#10;\end{displaymath}"/>
          <p:cNvPicPr/>
          <p:nvPr/>
        </p:nvPicPr>
        <p:blipFill>
          <a:blip r:embed="rId5"/>
          <a:stretch/>
        </p:blipFill>
        <p:spPr>
          <a:xfrm>
            <a:off x="-3965400" y="4435560"/>
            <a:ext cx="1180800" cy="419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395280" y="1878840"/>
            <a:ext cx="835200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έλος για την εύρεση τυχόν άλλων λύσεων θα έπρεπε να γίνει διερεύνηση στο πεδίο τιμών τη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 έλεγχος αυτός χρειάζεται να γίνει μόνον για να δούμε αν υπάρχουν άλλες λύσεις στο διάστημα [0, 3], στο οποίο έχουμε βρει την λύσ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2.084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τσι μπορούμε να ελέγξουμε τις τιμές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0, x=1, x=2, x=2.25, x=2.50, x=2.7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τον έλεγχο αυτό συμπεραίνουμε ότι στο διάστημα [0,3] υπάρχει μόνον μια ρίζα και αυτή βρίσκεται στο διάστημα (2.00, 2.25), οπότε δεν χρειάζεται να δοκιμάσουμε άλλες αρχικές τιμέ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4098960"/>
          <a:ext cx="8229600" cy="1655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.63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78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8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64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.52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7.10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.14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πρόσημ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0920" y="162828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(υποερώτημα Β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1800" spc="-1" strike="noStrike">
                <a:solidFill>
                  <a:srgbClr val="333399"/>
                </a:solidFill>
                <a:latin typeface="Tahoma"/>
              </a:rPr>
              <a:t>(ερώτημα Β)</a:t>
            </a: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ρχική κατάστασ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μείγματος: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aseous mixture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ρχικά μοριακά κλάσματα: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8920" y="20304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Tahoma"/>
              </a:rPr>
              <a:t>(ερώτημα Β)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ό τη στοιχειομετρική της αντίδρασης έχουμε για κάθε έν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ντιδρώντος τη δημιουργία ενό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ϊόν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ίναι αναμενόμενο ότι μετά την αποκατάσταση της ισορροπίας θα ισχύει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H2S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2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έλος έχουμε ως δεδομένο ότι ισχύει η σχέση μεταξύ αντιδρώντων – προϊόντω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ου καθορίζει την ισορροπία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205080" y="6087960"/>
                <a:ext cx="33116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4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7760" y="171360"/>
            <a:ext cx="806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Tahoma"/>
              </a:rPr>
              <a:t>(ερώτημα Β)</a:t>
            </a:r>
            <a:r>
              <a:rPr b="0" lang="el-GR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στω ότι δημιουργήθηκαν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ϊόντων και ότι η αντίδραση κινήθηκε προς τα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δεξιά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ό τη στοιχειομετρία της αντίδρασης και τη δεδομένη αρχική ποσότητα αντιδρώντων προκύπτει η τελική κατάσταση ισορροπίας του μείγματο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τσι τα μοριακά κλάσματα αντιδρώντων και προϊόντων δεδομένου ότι τ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ix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θα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)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x)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(3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2800" y="180720"/>
            <a:ext cx="7993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Tahoma"/>
              </a:rPr>
              <a:t>(ερώτημα Β)</a:t>
            </a:r>
            <a:r>
              <a:rPr b="0" lang="el-GR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τσι η σχέση που ισχύει για την ισορροπία στους 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και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θ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ίνε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μετά τις απαλοιφέ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αι ισοδύναμα προκύπτει η πολυωνυμική σχέση 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βαθμού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083040" y="3294000"/>
          <a:ext cx="29541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3294000"/>
                    <a:ext cx="29541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80720"/>
            <a:ext cx="810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1800" spc="-1" strike="noStrike">
                <a:solidFill>
                  <a:srgbClr val="333399"/>
                </a:solidFill>
                <a:latin typeface="Tahoma"/>
              </a:rPr>
              <a:t>(ερώτημα Β)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Όπως και στο πρώτο ερώτημα το πρόβλημα υπολογισμού της ισορροπίας έχει αναχθεί σε πρόβλημα υπολογισμού των ριζών της εξίσωσης 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υνεχίστε την επίλυση της άσκησης με παρόμοια βήματα που ακολουθήθηκαν στο προηγούμενο ερώτημα χρησιμοποιώντας τον κώδικα που έχετε ήδη αναπτύξει κατάλληλα διαμορφωμένο για τις απαιτήσεις του ερωτήματος 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αρόμοια αναπτύξτε και το ερώτημα 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1600" spc="-1" strike="noStrike">
                <a:solidFill>
                  <a:srgbClr val="333399"/>
                </a:solidFill>
                <a:latin typeface="Tahoma"/>
              </a:rPr>
              <a:t>(ερώτημα Α)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ρχική κατάστασ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μείγματος: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aseous mixture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ρχικά μοριακά κλάσματα: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6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37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2320" y="169560"/>
            <a:ext cx="82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3399"/>
                </a:solidFill>
                <a:latin typeface="Tahoma"/>
              </a:rPr>
              <a:t>Ερωτήσεις - Διευκρινήσεις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Οποιαδήποτε απορία – διευκρίνηση μόνον γραπτώς στο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nmand@central.ntua.g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ε οποιαδήποτε επικοινωνία θα σημειώνετε το ονοματεπώνυμό σα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333399"/>
                </a:solidFill>
                <a:latin typeface="Tahoma"/>
              </a:rPr>
              <a:t>Παραδοτέο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Παραδοτέο της άσκησης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Σε κείμενο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ο κώδικας του προγράμματος, σε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οποιαδήποτε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γλώσσα προγραμματισμού επιλέξετ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Ένας πίνακας που θα περιέχει τις τιμές που παρουσιάστηκαν στους πίνακες 1 &amp; 2 του μαθήμα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Η παράδοση θα γίνει ηλεκτρονικά στη διεύθυνση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nmand@central.ntua.g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Μην παραλείπετε τα στοιχεία σας (ονοματεπώνυμο, έτο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1600" spc="-1" strike="noStrike">
                <a:solidFill>
                  <a:srgbClr val="333399"/>
                </a:solidFill>
                <a:latin typeface="Tahoma"/>
              </a:rPr>
              <a:t>(ερώτημα Α)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320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ό τη στοιχειομετρική της αντίδρασης έχουμε για κάθε έν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ντιδρώντος τη δημιουργία ενό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ϊόν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ίναι αναμενόμενο ότι μετά την αποκατάσταση της ισορροπίας θα ισχύει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25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H2S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2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2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37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έλος έχουμε ως δεδομένο ότι ισχύει η σχέση μεταξύ αντιδρώντων – προϊόντω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ου καθορίζει την ισορροπία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3132000" y="5950080"/>
                <a:ext cx="33116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4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6360" y="188640"/>
            <a:ext cx="84596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333399"/>
                </a:solidFill>
                <a:latin typeface="Tahoma"/>
              </a:rPr>
              <a:t>(υποερώτημα Α)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57200" y="1989000"/>
            <a:ext cx="8229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στω ότι δημιουργήθηκαν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ϊόντ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ό τη στοιχειομετρία της αντίδρασης και τη δεδομένη αρχική ποσότητα αντιδρώντων προκύπτει η τελική κατάσταση ισορροπίας του μείγματο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5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τσι τα μοριακά κλάσματα αντιδρώντων και προϊόντων δεδομένου ότι τ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eix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θα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5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)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x)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H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SO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/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(υποερώτημα Α)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Έτσι η σχέση που ισχύει για την ισορροπία στους 6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και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γίνε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και ισοδύναμα προκύπτει η πολυωνυμική σχέση 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ahoma"/>
              </a:rPr>
              <a:t>ου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βαθμού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εξ.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083040" y="3286080"/>
                <a:ext cx="2954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4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Ανάλυση του προβλήματος </a:t>
            </a:r>
            <a:r>
              <a:rPr b="0" lang="el-GR" sz="2400" spc="-1" strike="noStrike">
                <a:solidFill>
                  <a:srgbClr val="333399"/>
                </a:solidFill>
                <a:latin typeface="Tahoma"/>
              </a:rPr>
              <a:t>(υποερώτημα Α)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ο πρόβλημα υπολογισμού της ισορροπίας έχει αναχθεί σε πρόβλημα υπολογισμού των ριζών της εξίσωσης 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επίλυσή της (εξ.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 με μεθόδους αναλυτικές είναι επίπον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ε πιο πολύπλοκες σχέσεις από αυτήν η επίλυση με αναλυτικές μεθόδους είναι αδύνατη γενικά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ια τους λόγους αυτούς θα ακολουθήσουμε αριθμητικούς μεθόδους επίλυ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58800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3399"/>
                </a:solidFill>
                <a:latin typeface="Tahoma"/>
              </a:rPr>
              <a:t>Αριθμητικές μέθοδοι </a:t>
            </a:r>
            <a:br>
              <a:rPr sz="5400"/>
            </a:br>
            <a:r>
              <a:rPr b="0" lang="el-GR" sz="5400" spc="-1" strike="noStrike">
                <a:solidFill>
                  <a:srgbClr val="333399"/>
                </a:solidFill>
                <a:latin typeface="Tahoma"/>
              </a:rPr>
              <a:t>υπολογισμού </a:t>
            </a:r>
            <a:br>
              <a:rPr sz="5400"/>
            </a:br>
            <a:r>
              <a:rPr b="0" lang="el-GR" sz="5400" spc="-1" strike="noStrike">
                <a:solidFill>
                  <a:srgbClr val="333399"/>
                </a:solidFill>
                <a:latin typeface="Tahoma"/>
              </a:rPr>
              <a:t>ριζών της εξισώσης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(x)=0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Tahoma"/>
              </a:rPr>
              <a:t>Αριθμητικές μέθοδοι υπολογισμού ριζών εξισώσεω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88748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ην κατηγορία αυτή υπάρχουν πολλές μεθοδολογίες, οι πιο δημοφιλείς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Μέθοδος διχοτόμησης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zano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Βασίζεται στο θεώρημα ενδιάμεσων τιμών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Αν η f ανήκει στο C[a,b] και K είναι ένας οποιοσδήποτε αριθμός μεταξύ του f(a) και f(b), τότε υπάρχει ένας αριθμός c που ανήκει στο (a,b) για το οποίο f(c)=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(+)Συγκλίνει πάντα (-)Είναι γενικά μια αργή μέθοδο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Μέθοδο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ton Raph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Βασίζεται στο ανάπτυγμα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ylor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Έστω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(x)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 και ότι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(x0) &amp; dy/dx0 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είναι γνωστά, αλλά θέλουμε να γνωρίζουμε την τιμή της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(x1) 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που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1 έχει κοντινή τιμή στην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0. 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Μπορούμε να προσεγγίσουμε την τιμή της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(x1) </a:t>
            </a:r>
            <a:r>
              <a:rPr b="0" i="1" lang="el-GR" sz="1200" spc="-1" strike="noStrike">
                <a:solidFill>
                  <a:srgbClr val="000000"/>
                </a:solidFill>
                <a:latin typeface="Tahoma"/>
              </a:rPr>
              <a:t>από την γραμμική σχέση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(+)Είναι πολύ γρήγορη μέθοδος με πολύ μικρό σφάλμ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(-)Έχει προβλήματα σταθερότητας και εξαρτάται από τις αρχικές τιμέ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3132000" y="5805360"/>
                <a:ext cx="2789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y/d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0:05:45Z</dcterms:created>
  <dc:creator>Nicholas</dc:creator>
  <dc:description/>
  <dc:language>en-US</dc:language>
  <cp:lastModifiedBy>Nicholas</cp:lastModifiedBy>
  <dcterms:modified xsi:type="dcterms:W3CDTF">2014-07-09T23:38:42Z</dcterms:modified>
  <cp:revision>41</cp:revision>
  <dc:subject/>
  <dc:title>ΘΕΜΑ 2ο</dc:title>
</cp:coreProperties>
</file>